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6BDB-4943-43DC-9640-282AA3850B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 Ways of Looking 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bert May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artment of Math/CSci/Phy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irleigh Dickinson Univer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 Ways of Looking 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ay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 of Math/CSci/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eigh Dickinson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form the unique linear order that 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out end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dekind-comple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parable (countable dense subs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form the unique linear order that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end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dekind-compl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ble (countable dense subs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slin Problem: Replace separability with the countable chain condi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collection of disjoint nontrivial closed intervals is at most coun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is characterize the real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unterexample is called a Suslin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xistence of Suslin lines are independent of the axioms of ZFC set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slin Problem: Replace separability with the countable chain cond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collection of disjoint nontrivial closed intervals is at most coun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is characterize the real numb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unterexample is called a Suslin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istence of Suslin lines are independent of the axioms of ZFC set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may be viewed as a space of branches of an infinite t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es are partial orders whose initial segments {x : X&lt;p} are well-ordered.  The branches are the maximal chains in the partial 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infinite trees (Aronzsajn tree, Kurepa tree) give rise to different linear orders (Aronszajn line, Kurepa lin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may be viewed as a space of branches of an infinite tr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es are partial orders whose initial segments {x : X&lt;p} are well-ordered.  The branches are the maximal chains in the partial 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infinite trees (Aronzsajn tree, Kurepa tree) give rise to different linear orders (Aronszajn line, Kurepa lin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haracterization of the usual topology of the real lin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 is a regular, separable, connected, locally connected space, in which every point is a cut point, then X is homeomorphic to the real li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int p in a connected space X is a cut-point if X\{p} is disconnec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characterization:  Replace “regular” with “metrizable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aracterization of the usual topology of the real li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X is a regular, separable, connected, locally connected space, in which every point is a cut point, then X is homeomorphic to the real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int p in a connected space X is a cut-point if X\{p} is disconn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characterization:  Replace “regular” with “metrizabl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form a complete separable metric space, a “Polish space”.  Also, it is perf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examples of perfect Polish spac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tor space: all sequences of 0’s and 1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ire space: all sequences of natur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ite/countable products of perfect Polish sp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perfect Polish space is Borel-isomorphic to the re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form a complete separable metric space, a “Polish space”.  Also, it is per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examples of perfect Polish spa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tor space: all sequences of 0’s and 1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ire space: all sequences of natur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te/countable products of perfect Polish sp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perfect Polish space is Borel-isomorphic to the re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line is a one-dimensional topological manifo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ification of connected Hausdorff one-dimensional manifo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ng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pen long r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line is a one-dimensional topological manif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 of connected Hausdorff one-dimensional manif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pen long 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aluation           is a function from a field to the nonnegative real numbers with properties analogous to a norm or absolute valu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luation           is a function from a field to the nonnegative real numbers with properties analogous to a norm or absolute valu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valuations are equivalent if one is a power of the 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valuation is equivalent to one which satisfi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a valuation defines a metric on a field: the distance between a and b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valuations are equivalent if one is a power of the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valuation is equivalent to one which satisf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 valuation defines a metric on a field: the distance between a and b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trowski’s theorem:  The inequivalent valuations on the rational numbers are absolute value, the trivial valuation, and the p-adic valuations for every prime 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trowski’s theorem:  The inequivalent valuations on the rational numbers are absolute value, the trivial valuation, and the p-adic valuations for every prime 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etric completions of the rationals defined by a valuation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rete topology on Q  (with the trivial valu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 (with absolute val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p (the p-adic reals, with the p-adic valuatio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tric completions of the rationals defined by a valuation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ete topology on Q  (with the trivial valu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 (with absolute val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p (the p-adic reals, with the p-adic valua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eties of Mathematical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o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 boo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xt boo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cture No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ndbooks and encyclopedi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ies of Mathematical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books and encycloped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form an ordered fi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fields of the real numb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algebraic number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abl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ibl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lgebraic completion of the real numbers is the field of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form an ordered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fields of the real nu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algebraic number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abl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bl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gebraic completion of the real numbers is the field of complex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eld of real numbers is the prototypical real-closed field: its algebraic closure is a finite exten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rtin-Schreier theorem characterizes a real-closed fiel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characteristic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ic closure by adjoining i, where i2 = 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 linear 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positive number has a square r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 is not a sum of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eld of real numbers is the prototypical real-closed field: its algebraic closure is a finite exten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tin-Schreier theorem characterizes a real-closed fiel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characteristic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ic closure by adjoining i, where i2 =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a linear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positive number has a square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is not a sum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field is a vector space over a subfi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form a vector space over the ration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sis for this vector space is called a Hamel 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field is a vector space over a sub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form a vector space over the ration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sis for this vector space is called a Hamel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.  The Real Numbers as an 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what extent can the operations on the reals extend to finite-dimensional algebras over the re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we list a few resu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.  The Real Numbers as an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what extent can the operations on the reals extend to finite-dimensional algebras over the re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list a few res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.  The Real Numbers as an 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nite-dimensional associative real division algebras are the real numbers, complex numbers, and the quaternions. (Frobeni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nite-dimensional real commutative division algebras with unit are the real numbers and the complex numbers. (Hopf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nite-dimensional real division algebras have dimension 1, 2, 4, or 8.  (Kervaire, Milno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.  The Real Numbers as an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ite-dimensional associative real division algebras are the real numbers, complex numbers, and the quaternions. (Frobeni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ite-dimensional real commutative division algebras with unit are the real numbers and the complex numbers. (Hop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ite-dimensional real division algebras have dimension 1, 2, 4, or 8.  (Kervaire, Miln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tor showed that the real numbers are not equinumerous with the integ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     as the cardinal of the set of real numbers, the cardinal of the continu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tinuum Hypothesis:  Does             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tor showed that the real numbers are not equinumerous with the inte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     as the cardinal of the set of real numbers, the cardinal of the continu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um Hypothesis:  Does             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tinuum must satisf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cond condition guarantees tha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much else restricts the possible values of the continu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um must satisf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condition guarantees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much else restricts the possible values of the continu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ton’s theorem:  Let     be any regular cardinal in the ground model of ZFC with cofina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there is a generic extension which preserves cardinalities, in whic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xample, the continuum could 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ton’s theorem:  Let     be any regular cardinal in the ground model of ZFC with cofin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re is a generic extension which preserves cardinalities, in wh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he continuum could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ariety of “cardinal invariants” of the continuum: cardinals between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give two examples: the bounding number b, and the dominating number 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 f, g: N  N.  We say f dominates g iff f(n)≥g(n) for sufficiently large 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riety of “cardinal invariants” of the continuum: cardinals between     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give two examples: the bounding number b, and the dominating number 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f, g: N  N.  We say f dominates g iff f(n)≥g(n) for sufficiently large 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unding number b: the minimum number of functions f such that no g dominates every 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inating number d: the minimum number of functions f such that every g is dominated by a function 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unding number b: the minimum number of functions f such that no g dominates every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inating number d: the minimum number of functions f such that every g is dominated by a function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eties of Mathematical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 pap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vey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lected wor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ine Re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Sci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ine data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-jour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ies of Mathematical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ey 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ed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Sci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ine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jour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8.  Number Theoretic Classification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, algebraic numbers, transcendent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ouville’s theorem: numbers that can be very well approximated by rationals must be transcenden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, for infinitely many n, there is a rational such tha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then α is transcenden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8.  Number Theoretic Classification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, algebraic numbers, transcendent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ouville’s theorem: numbers that can be very well approximated by rationals must be transcenden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, for infinitely many n, there is a rational such tha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then α is transcenden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8.  Number Theoretic Classification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hler's classification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lgebraic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, T, U: classes of transcendent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ughly speaking, it measures how well can a number be approximated by algebraic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, y are algebraically dependent, then x and y belong to the same Mahler cl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real numbers are S-numbers by measure, U-numbers by categ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8.  Number Theoretic Classification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hler's classification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lgebraic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, T, U: classes of transcendent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ly speaking, it measures how well can a number be approximated by algebraic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x, y are algebraically dependent, then x and y belong to the same Mahler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real numbers are S-numbers by measure, U-numbers by categ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9.  The Real Numbers as a First-Order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rski's decidability theorem:  The first-order theory of real-closed fields is decid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n algorithmic procedure to determine if a first-order sentence about the real numbers in the language of ordered fields is true or fals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9.  The Real Numbers as a First-Order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ski's decidability theorem:  The first-order theory of real-closed fields is decid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n algorithmic procedure to determine if a first-order sentence about the real numbers in the language of ordered fields is true or fal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9.  The Real Numbers as a First-Order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standard real numbers extend the real number system with infinitesim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construction is with an ultrapower of an first-order model of the real numbers, with all possible constants, predicates, and fun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nonstandard real number may be written uniquely as a sum of a standard real number and an infinitesim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9.  The Real Numbers as a First-Order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standard real numbers extend the real number system with infinitesim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nstruction is with an ultrapower of an first-order model of the real numbers, with all possible constants, predicates, and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nonstandard real number may be written uniquely as a sum of a standard real number and an infinites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eal numbers are a subclass of a class of finitely-move two-person ga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development: a surreal is an ordinal-length sequence of +’s and –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eals are lexicographically ordered by -, (empty), +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rreal numbers, as a proper class, form an ordered fi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are a subfield of the surreals of order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al numbers are a subclass of a class of finitely-move two-person ga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development: a surreal is an ordinal-length sequence of +’s and –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als are lexicographically ordered by -, (empty), +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rreal numbers, as a proper class, form an ordered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are a subfield of the surreals of order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surreal numbers in ord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-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++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surreal numbers in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-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++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eals of order      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yadic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eals of order      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yadic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als of order      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yadic f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als of order      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yadic f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y axioms for the real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as infinite continued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eration schemes for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ernative foundations: constructivism, intuitionism, nonstandard set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ational approximations to real numbers: floating point numbers, interval arithmetic, and so 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metry axioms for the rea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as infinite continued f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eration schemes for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ive foundations: constructivism, intuitionism, nonstandard set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ational approximations to real numbers: floating point numbers, interval arithmetic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ity and randomness measures on real numbers (for example, Turing degre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ical and philosophical perspectives: the real numbers as an idealization of a measurement, the meaning and use of infinitesimals, and so 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as a representation of an infinite sequence of Bernoulli tr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generated by formal languag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ity and randomness measures on real numbers (for example, Turing degre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and philosophical perspectives: the real numbers as an idealization of a measurement, the meaning and use of infinitesimals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as a representation of an infinite sequence of Bernoulli t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generated by formal langu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it patterns in real numbers, such as norm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as set-theoretic codes.  A real number may co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ardinal colla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orel s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untable model of set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trategy for an infinite two-person g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 patterns in real numbers, such as norm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as set-theoretic codes.  A real number may co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rdinal col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rel 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untable model of set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rategy for an infinite two-person g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thematics Hypertext Project  (MH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eb-based hypertext of mathem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esign paper describes goals, organization, technology issue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jodi.ecs.soton.ac.uk/Articles/v05/i01/Mayans/jod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release in June, 20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resentation discusses some of the pages on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thematics Hypertext Project  (MH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eb-based hypertext of mathe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sign paper describes goals, organization, technology issue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jodi.ecs.soton.ac.uk/Articles/v05/i01/Mayans/jod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release in June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esentation discusses some of the pages on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izing Multiple The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should the hypertext on real numbers be organiz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 than a grand all-encompassing archite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t a simple listing of topics in unrelated slo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oal is a readable, searchable, general introduction to the real numbe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ing Multiple The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should the hypertext on real numbers be organiz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than a grand all-encompassing archit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that a simple listing of topics in unrelated slo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al is a readable, searchable, general introduction to the real numbe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izing Multiple The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ust also show relationships across catego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ust lead to more in-depth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ust be in a form that is easy to update and exte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ust help readers searching for a top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ing Multiple The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ust also show relationships across categ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ust lead to more in-depth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ust be in a form that is easy to update and ext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ust help readers searching for a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ertext Struc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text in this system is in one of two forms: “book text” and “core text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text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text in this system is in one of two forms: “book text” and “core text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ok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ok text gives an orderly development of mathematical ide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er and more narrowly focused than most math boo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ems, proof, definitions, 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books attached in a tree-like struc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text gives an orderly development of mathematical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er and more narrowly focused than most math boo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s, proof, definitions,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books attached in a tree-like stru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, highly-linked texts, organized around a concept or meth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rsive, condensed discussions of a mathematical top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views, surveys, summaries, leading to oth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the user navigate to other top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 topic may reappear in several core tex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, highly-linked texts, organized around a concept or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rsive, condensed discussions of a mathematical top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ews, surveys, summaries, leading to other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the user navigate to other top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 topic may reappear in several core tex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 ess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es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ts of 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of a 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 of 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a 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Text and Book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xt and Book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ematics Hypertext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step of a very long term pro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for contributors and collabo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 is the building of large-scale structures of mathematical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s Hypertext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step of a very long term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for contributors and collabo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 is the building of large-scale structures of mathematical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xt on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im for a “comprehensive introduction" to the re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are everywhere dense in mathemat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have different meanings in different contex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on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im for a “comprehensive introduction" to the re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are everywhere dense in mathema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have different meanings in different contex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xt on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o include on a text on real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ations and construction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zations of the real numbers by struc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ensions and substructures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classified in different w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are a system related to other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on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o include on a text on real numb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ations and construction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zations of the real numbers by stru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s and substructures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classified in different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are a system related to other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.  Foundations of the Real Numbe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define real numbers and their basic operations from rationals or inte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ation of three meth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dekind cuts of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ivalence classes of Cauchy sequences of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-10 digit sequ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.  Foundations of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efine real numbers and their basic operations from rationals or inte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of three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dekind cuts of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ce classes of Cauchy sequences of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-10 digit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.  Foundations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ssion of foundations from John Conway, "On Numbers and Games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.  Foundations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of foundations from John Conway, "On Numbers and Games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2622-D3F5-408F-8E0E-5826C05F3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341E-9B7F-4F48-987F-CAC890CA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2ECE-8AD3-4A3F-9C45-23C4FF99E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7B29-1810-427F-AB41-4D8E319D7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76A2-833A-41BD-9607-8F6FD04E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C97B-2A13-4027-AA79-81578CB8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F80C-DFC0-4F72-AF28-3072C2C1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E311-22B3-4956-AA97-8B996959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5B59-AFDA-4CEA-9646-E8061854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7D28-5CEF-4937-A5B0-CF72786E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8349-65A0-44B0-8306-11AB5D3F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1BA0-AB81-4383-98C7-89045BA3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16F0-CA24-4355-B591-2BA7E576A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jodi.ecs.soton.ac.uk/Articles/v05/i01/Mayans/jodi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n Ways of Looking a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Rea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ert May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artment of Math/CSci/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rleigh Dickinson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form the unique linear order that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end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ekind-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ble (countable dense subs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lin Problem: Replace separability with the countable chain cond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collection of disjoint nontrivial closed intervals is at most coun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is characterize the real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unterexample is called a Suslin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istence of Suslin lines are independent of the axioms of ZFC set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may be viewed as a space of branches of an infinite t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es are partial orders whose initial segments {x : X&lt;p} are well-ordered.  The branches are the maximal chains in the partial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infinite trees (Aronzsajn tree, Kurepa tree) give rise to different linear orders (Aronszajn line, Kurepa 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haracterization of the usual topology of the real l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 is a regular, separable, connected, locally connected space, in which every point is a cut point, then X is homeomorphic to the real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int p in a connected space X is a cut-point if X\{p} is disconn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characterization:  Replace “regular” with “metrizable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form a complete separable metric space, a “Polish space”.  Also, it is perf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examples of perfect Polish spa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tor space: all sequences of 0’s and 1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ire space: all sequences of natur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ite/countable products of perfect Polish sp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perfect Polish space is Borel-isomorphic to the re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line is a one-dimensional topological manifo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cation of connected Hausdorff one-dimensional manifo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ir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ng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pen long 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alu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is a function from a field to the nonnegative real numbers with properties analogous to a norm or absolute val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2819520" y="1600200"/>
                <a:ext cx="8380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6"/>
              <p:cNvSpPr txBox="1"/>
              <p:nvPr/>
            </p:nvSpPr>
            <p:spPr>
              <a:xfrm>
                <a:off x="1219320" y="3352680"/>
                <a:ext cx="388620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iff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≤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ϕ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r>
                              <m:t xml:space="preserve">ϕ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valuations are equivalent if one is a power of the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valuation is equivalent to one which satisf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a valuation defines a metric on a field: the distance betwe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6"/>
              <p:cNvSpPr txBox="1"/>
              <p:nvPr/>
            </p:nvSpPr>
            <p:spPr>
              <a:xfrm>
                <a:off x="2438280" y="3581280"/>
                <a:ext cx="2590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≤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+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8"/>
              <p:cNvSpPr txBox="1"/>
              <p:nvPr/>
            </p:nvSpPr>
            <p:spPr>
              <a:xfrm>
                <a:off x="5486400" y="4952880"/>
                <a:ext cx="2971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trowski’s theorem:  The inequivalent valuations on the rational numbers are absolute value, the trivial valuation, and the p-adic valuations for every prime 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tric completions of the rationals defined by a valuation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ete topology 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(with the trivial valu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(with absolute val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he p-adic reals, with the p-adic valuatio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eties of Mathematical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books and encycloped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form an ordered 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fields of the real numb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algebraic number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ble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ble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lgebraic completion of the real numbers is the field of complex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eld of real numbers is the prototypical real-closed field: its algebraic closure is a finite exten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rtin-Schreier theorem characterizes a real-closed fi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characteristic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ebraic closure by adjoining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a linear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positive number has a square 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 is not a sum of squ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field is a vector space over a sub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form a vector space over the ration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asis for this vector space is called a Hamel sp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6.  The Real Numbers as an Algeb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what extent can the operations on the reals extend to finite-dimensional algebras over the re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we list a few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6.  The Real Numbers as an Algeb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nite-dimensional associative real division algebras are the real numbers, complex numbers, and the quaternions. (Frobeni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nite-dimensional real commutative division algebras with unit are the real numbers and the complex numbers. (Hop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nite-dimensional real division algebras have dimension 1, 2, 4, or 8.  (Kervaire, Miln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tor showed that the real numbers are not equinumerous with the inte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     as the cardinal of the set of real numbers, the cardinal of the continu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tinuum Hypothesis:  Does           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4"/>
              <p:cNvSpPr txBox="1"/>
              <p:nvPr/>
            </p:nvSpPr>
            <p:spPr>
              <a:xfrm>
                <a:off x="6458040" y="3429000"/>
                <a:ext cx="11620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6"/>
              <p:cNvSpPr txBox="1"/>
              <p:nvPr/>
            </p:nvSpPr>
            <p:spPr>
              <a:xfrm>
                <a:off x="1828800" y="2590920"/>
                <a:ext cx="5335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tinuum must satisf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cond condition guarantees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much else restricts the possible values of the continu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6"/>
              <p:cNvSpPr txBox="1"/>
              <p:nvPr/>
            </p:nvSpPr>
            <p:spPr>
              <a:xfrm>
                <a:off x="2666880" y="2057400"/>
                <a:ext cx="2895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&gt;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cf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&gt;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8"/>
              <p:cNvSpPr txBox="1"/>
              <p:nvPr/>
            </p:nvSpPr>
            <p:spPr>
              <a:xfrm>
                <a:off x="7010280" y="2895480"/>
                <a:ext cx="9907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ω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ton’s theorem:  Let     be any regular cardinal in the ground model of ZFC with cofin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re is a generic extension which preserves cardinalities, in whi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the continuum could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6019920" y="2895480"/>
                <a:ext cx="99036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5"/>
              <p:cNvSpPr txBox="1"/>
              <p:nvPr/>
            </p:nvSpPr>
            <p:spPr>
              <a:xfrm>
                <a:off x="7467480" y="1905120"/>
                <a:ext cx="1067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6"/>
              <p:cNvSpPr txBox="1"/>
              <p:nvPr/>
            </p:nvSpPr>
            <p:spPr>
              <a:xfrm>
                <a:off x="914400" y="3809880"/>
                <a:ext cx="4800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rPr>
                        <m:lit/>
                        <m:nor/>
                      </m:rPr>
                      <m:t xml:space="preserve"> but not 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ω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7"/>
              <p:cNvSpPr txBox="1"/>
              <p:nvPr/>
            </p:nvSpPr>
            <p:spPr>
              <a:xfrm>
                <a:off x="4495680" y="160020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riety of “cardinal invariants” of the continuum: cardinals between       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give two examples: the bounding numb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the dominating numb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, 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.  We sa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min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(n)≥g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sufficiently large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1"/>
              <p:cNvSpPr txBox="1"/>
              <p:nvPr/>
            </p:nvSpPr>
            <p:spPr>
              <a:xfrm>
                <a:off x="5715000" y="2057400"/>
                <a:ext cx="14479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unding numb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minimum number of function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that n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minates e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ominating numb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minimum number of function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h that e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dominated by a func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4"/>
              <p:cNvSpPr txBox="1"/>
              <p:nvPr/>
            </p:nvSpPr>
            <p:spPr>
              <a:xfrm>
                <a:off x="914400" y="5029200"/>
                <a:ext cx="2819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b</m:t>
                    </m:r>
                    <m:r>
                      <m:t xml:space="preserve">≤</m:t>
                    </m:r>
                    <m:r>
                      <m:t xml:space="preserve">d</m:t>
                    </m:r>
                    <m:r>
                      <m:t xml:space="preserve">≤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eties of Mathematical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vey 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ed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Sci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data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jour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8.  Number Theoretic Classification of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 numbers, algebraic numbers, transcendent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ouville’s theorem: numbers that can be very well approximated by rationals must be transcenden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, for infinitely many n, there is a rational such t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then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ranscenden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1752480" y="4952880"/>
                <a:ext cx="23623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α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d>
                    <m:r>
                      <m:t xml:space="preserve">&lt;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8.  Number Theoretic Classification of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hler's classification of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algebraic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, T, U: classes of transcendent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ghly speaking, it measures how well can a number be approximated by algebraic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, y are algebraically dependent, then x and y belong to the same Mahler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real numbers are S-numbers by measure, U-numbers by categ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9.  The Real Numbers as a First-Order The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ski's decidability theorem:  The first-order theory of real-closed fields is decid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n algorithmic procedure to determine if a first-order sentence about the real numbers in the language of ordered fields is true or fals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9.  The Real Numbers as a First-Order The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standard real numbers extend the real number system with infinitesim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construction is with an ultrapower of an first-order model of the real numbers, with all possible constants, predicates, and fun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nonstandard real number may be written uniquely as a sum of a standard real number and an infinitesi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eal numbers are a subclass of a class of finitely-move two-person ga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development: a surreal is an ordinal-length sequence of +’s and –’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eals are lexicographically ordered by -, (empty), +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rreal numbers, as a proper class, form an ordered 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are a subfield of the surreals of order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4"/>
              <p:cNvSpPr txBox="1"/>
              <p:nvPr/>
            </p:nvSpPr>
            <p:spPr>
              <a:xfrm>
                <a:off x="2133720" y="5486400"/>
                <a:ext cx="6094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urreal numbers in or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r_ansi"/>
              </a:rPr>
              <a:t>--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r_ans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r_ansi"/>
              </a:rPr>
              <a:t>-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r_ansi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r_ans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r_ansi"/>
              </a:rPr>
              <a:t>+-+</a:t>
            </a:r>
            <a:r>
              <a:rPr b="0" lang="en-US" sz="2800" spc="-1" strike="noStrike">
                <a:solidFill>
                  <a:srgbClr val="000000"/>
                </a:solidFill>
                <a:latin typeface="r_ans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r_ansi"/>
              </a:rPr>
              <a:t>+++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eals of order    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dyadic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eals of order    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dyadic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3276720" y="1676520"/>
                <a:ext cx="6858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6"/>
              <p:cNvSpPr txBox="1"/>
              <p:nvPr/>
            </p:nvSpPr>
            <p:spPr>
              <a:xfrm>
                <a:off x="3276720" y="2971800"/>
                <a:ext cx="6094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8"/>
              <p:cNvSpPr txBox="1"/>
              <p:nvPr/>
            </p:nvSpPr>
            <p:spPr>
              <a:xfrm>
                <a:off x="4495680" y="3886200"/>
                <a:ext cx="990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9"/>
              <p:cNvSpPr txBox="1"/>
              <p:nvPr/>
            </p:nvSpPr>
            <p:spPr>
              <a:xfrm>
                <a:off x="1447920" y="4495680"/>
                <a:ext cx="5331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metry axioms for the real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as infinite continued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ation schemes for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 foundations: constructivism, intuitionism, nonstandard set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 approximations to real numbers: floating point numbers, interval arithmetic, and so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ity and randomness measures on real numbers (for example, Turing degre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 and philosophical perspectives: the real numbers as an idealization of a measurement, the meaning and use of infinitesimals, and so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as a representation of an infinite sequence of Bernoulli t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generated by formal langu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 patterns in real numbers, such as norm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as set-theoretic codes.  A real number may c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ardinal collap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orel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untable model of set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rategy for an infinite two-person g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athematics Hypertext Project  (MH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3818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eb-based hypertext of mathem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esign paper describes goals, organization, technology issu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jodi.ecs.soton.ac.uk/Articles/v05/i01/Mayans/jodi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release in June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esentation discusses some of the pages on the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zing Multiple The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the hypertext on real numbers be organiz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than a grand all-encompassing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t a simple listing of topics in unrelated slo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 is a readable, searchable, general introduction to the real number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zing Multiple The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also show relationships across catego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lead to more in-depth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be in a form that is easy to update and ext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help readers searching for a top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text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text in this system is in one of two forms: “book text” and “core text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k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k text gives an orderly development of mathematical id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er and more narrowly focused than most math boo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orems, proof, definitions,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books attached in a tree-like stru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, highly-linked texts, organized around a concept or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rsive, condensed discussions of a mathematical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ews, surveys, summaries, leading to other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s the user navigate to other top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topic may reappear in several core tex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4"/>
          <p:cNvSpPr/>
          <p:nvPr/>
        </p:nvSpPr>
        <p:spPr>
          <a:xfrm>
            <a:off x="3581280" y="2286000"/>
            <a:ext cx="914400" cy="3809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429000" y="1523880"/>
            <a:ext cx="129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6"/>
          <p:cNvSpPr/>
          <p:nvPr/>
        </p:nvSpPr>
        <p:spPr>
          <a:xfrm>
            <a:off x="2819520" y="28954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7"/>
          <p:cNvSpPr/>
          <p:nvPr/>
        </p:nvSpPr>
        <p:spPr>
          <a:xfrm>
            <a:off x="1371600" y="1371600"/>
            <a:ext cx="5715000" cy="53341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8"/>
          <p:cNvSpPr/>
          <p:nvPr/>
        </p:nvSpPr>
        <p:spPr>
          <a:xfrm>
            <a:off x="3352680" y="3124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9"/>
          <p:cNvSpPr/>
          <p:nvPr/>
        </p:nvSpPr>
        <p:spPr>
          <a:xfrm>
            <a:off x="2743200" y="3733920"/>
            <a:ext cx="53352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0"/>
          <p:cNvSpPr/>
          <p:nvPr/>
        </p:nvSpPr>
        <p:spPr>
          <a:xfrm>
            <a:off x="3276720" y="3962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1"/>
          <p:cNvSpPr/>
          <p:nvPr/>
        </p:nvSpPr>
        <p:spPr>
          <a:xfrm>
            <a:off x="2743200" y="47242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2"/>
          <p:cNvSpPr/>
          <p:nvPr/>
        </p:nvSpPr>
        <p:spPr>
          <a:xfrm>
            <a:off x="32767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"/>
          <p:cNvSpPr/>
          <p:nvPr/>
        </p:nvSpPr>
        <p:spPr>
          <a:xfrm>
            <a:off x="1905120" y="33526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4"/>
          <p:cNvSpPr/>
          <p:nvPr/>
        </p:nvSpPr>
        <p:spPr>
          <a:xfrm>
            <a:off x="2438280" y="358128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5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6"/>
          <p:cNvSpPr/>
          <p:nvPr/>
        </p:nvSpPr>
        <p:spPr>
          <a:xfrm flipV="1">
            <a:off x="2362320" y="411444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7"/>
          <p:cNvSpPr/>
          <p:nvPr/>
        </p:nvSpPr>
        <p:spPr>
          <a:xfrm>
            <a:off x="4724280" y="24382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8"/>
          <p:cNvSpPr/>
          <p:nvPr/>
        </p:nvSpPr>
        <p:spPr>
          <a:xfrm flipH="1">
            <a:off x="4419720" y="28195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9"/>
          <p:cNvSpPr/>
          <p:nvPr/>
        </p:nvSpPr>
        <p:spPr>
          <a:xfrm>
            <a:off x="5867280" y="35812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0"/>
          <p:cNvSpPr/>
          <p:nvPr/>
        </p:nvSpPr>
        <p:spPr>
          <a:xfrm>
            <a:off x="548640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21"/>
          <p:cNvSpPr/>
          <p:nvPr/>
        </p:nvSpPr>
        <p:spPr>
          <a:xfrm>
            <a:off x="5486400" y="4419720"/>
            <a:ext cx="53352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2"/>
          <p:cNvSpPr/>
          <p:nvPr/>
        </p:nvSpPr>
        <p:spPr>
          <a:xfrm flipH="1" flipV="1">
            <a:off x="5333760" y="4114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23"/>
          <p:cNvSpPr/>
          <p:nvPr/>
        </p:nvSpPr>
        <p:spPr>
          <a:xfrm>
            <a:off x="4952880" y="35812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4"/>
          <p:cNvSpPr/>
          <p:nvPr/>
        </p:nvSpPr>
        <p:spPr>
          <a:xfrm>
            <a:off x="44956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5"/>
          <p:cNvSpPr/>
          <p:nvPr/>
        </p:nvSpPr>
        <p:spPr>
          <a:xfrm flipH="1">
            <a:off x="1676160" y="510552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6"/>
          <p:cNvSpPr/>
          <p:nvPr/>
        </p:nvSpPr>
        <p:spPr>
          <a:xfrm flipH="1" flipV="1">
            <a:off x="1218960" y="30481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7"/>
          <p:cNvSpPr/>
          <p:nvPr/>
        </p:nvSpPr>
        <p:spPr>
          <a:xfrm>
            <a:off x="6400800" y="3809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8"/>
          <p:cNvSpPr/>
          <p:nvPr/>
        </p:nvSpPr>
        <p:spPr>
          <a:xfrm>
            <a:off x="5867280" y="49528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30"/>
          <p:cNvSpPr/>
          <p:nvPr/>
        </p:nvSpPr>
        <p:spPr>
          <a:xfrm>
            <a:off x="5029200" y="297180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1"/>
          <p:cNvSpPr/>
          <p:nvPr/>
        </p:nvSpPr>
        <p:spPr>
          <a:xfrm>
            <a:off x="2286000" y="464832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2"/>
          <p:cNvSpPr/>
          <p:nvPr/>
        </p:nvSpPr>
        <p:spPr>
          <a:xfrm>
            <a:off x="3505320" y="59436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es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4191120" y="213372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6"/>
          <p:cNvSpPr/>
          <p:nvPr/>
        </p:nvSpPr>
        <p:spPr>
          <a:xfrm>
            <a:off x="3962520" y="1676520"/>
            <a:ext cx="1904760" cy="17524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0"/>
          <p:cNvSpPr/>
          <p:nvPr/>
        </p:nvSpPr>
        <p:spPr>
          <a:xfrm>
            <a:off x="4114800" y="510552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31"/>
          <p:cNvSpPr/>
          <p:nvPr/>
        </p:nvSpPr>
        <p:spPr>
          <a:xfrm>
            <a:off x="685800" y="4038480"/>
            <a:ext cx="1905120" cy="17528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2"/>
          <p:cNvSpPr/>
          <p:nvPr/>
        </p:nvSpPr>
        <p:spPr>
          <a:xfrm>
            <a:off x="6019920" y="342900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3"/>
          <p:cNvSpPr/>
          <p:nvPr/>
        </p:nvSpPr>
        <p:spPr>
          <a:xfrm>
            <a:off x="1295280" y="1981080"/>
            <a:ext cx="1600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s of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4"/>
          <p:cNvSpPr/>
          <p:nvPr/>
        </p:nvSpPr>
        <p:spPr>
          <a:xfrm>
            <a:off x="457200" y="4495680"/>
            <a:ext cx="2362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s of a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35"/>
          <p:cNvSpPr/>
          <p:nvPr/>
        </p:nvSpPr>
        <p:spPr>
          <a:xfrm>
            <a:off x="5715000" y="2971800"/>
            <a:ext cx="1905120" cy="17524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36"/>
          <p:cNvSpPr/>
          <p:nvPr/>
        </p:nvSpPr>
        <p:spPr>
          <a:xfrm>
            <a:off x="3886200" y="4648320"/>
            <a:ext cx="1905120" cy="17524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37"/>
          <p:cNvSpPr/>
          <p:nvPr/>
        </p:nvSpPr>
        <p:spPr>
          <a:xfrm>
            <a:off x="1143000" y="1523880"/>
            <a:ext cx="1905120" cy="17528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38"/>
          <p:cNvSpPr/>
          <p:nvPr/>
        </p:nvSpPr>
        <p:spPr>
          <a:xfrm>
            <a:off x="1143000" y="22860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39"/>
          <p:cNvSpPr/>
          <p:nvPr/>
        </p:nvSpPr>
        <p:spPr>
          <a:xfrm>
            <a:off x="426708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40"/>
          <p:cNvSpPr/>
          <p:nvPr/>
        </p:nvSpPr>
        <p:spPr>
          <a:xfrm>
            <a:off x="5486400" y="23623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1"/>
          <p:cNvSpPr/>
          <p:nvPr/>
        </p:nvSpPr>
        <p:spPr>
          <a:xfrm>
            <a:off x="4419720" y="29718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42"/>
          <p:cNvSpPr/>
          <p:nvPr/>
        </p:nvSpPr>
        <p:spPr>
          <a:xfrm>
            <a:off x="5943600" y="3657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43"/>
          <p:cNvSpPr/>
          <p:nvPr/>
        </p:nvSpPr>
        <p:spPr>
          <a:xfrm>
            <a:off x="6248520" y="43434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44"/>
          <p:cNvSpPr/>
          <p:nvPr/>
        </p:nvSpPr>
        <p:spPr>
          <a:xfrm>
            <a:off x="7238880" y="4191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45"/>
          <p:cNvSpPr/>
          <p:nvPr/>
        </p:nvSpPr>
        <p:spPr>
          <a:xfrm>
            <a:off x="6705720" y="3048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46"/>
          <p:cNvSpPr/>
          <p:nvPr/>
        </p:nvSpPr>
        <p:spPr>
          <a:xfrm>
            <a:off x="2666880" y="23623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47"/>
          <p:cNvSpPr/>
          <p:nvPr/>
        </p:nvSpPr>
        <p:spPr>
          <a:xfrm>
            <a:off x="1447920" y="43434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48"/>
          <p:cNvSpPr/>
          <p:nvPr/>
        </p:nvSpPr>
        <p:spPr>
          <a:xfrm>
            <a:off x="1981080" y="5334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49"/>
          <p:cNvSpPr/>
          <p:nvPr/>
        </p:nvSpPr>
        <p:spPr>
          <a:xfrm>
            <a:off x="4267080" y="4876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50"/>
          <p:cNvSpPr/>
          <p:nvPr/>
        </p:nvSpPr>
        <p:spPr>
          <a:xfrm>
            <a:off x="4114800" y="5334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51"/>
          <p:cNvSpPr/>
          <p:nvPr/>
        </p:nvSpPr>
        <p:spPr>
          <a:xfrm>
            <a:off x="5257800" y="5867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52"/>
          <p:cNvSpPr/>
          <p:nvPr/>
        </p:nvSpPr>
        <p:spPr>
          <a:xfrm>
            <a:off x="4876920" y="6019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53"/>
          <p:cNvSpPr/>
          <p:nvPr/>
        </p:nvSpPr>
        <p:spPr>
          <a:xfrm>
            <a:off x="1828800" y="15238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54"/>
          <p:cNvSpPr/>
          <p:nvPr/>
        </p:nvSpPr>
        <p:spPr>
          <a:xfrm>
            <a:off x="1981080" y="3048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55"/>
          <p:cNvSpPr/>
          <p:nvPr/>
        </p:nvSpPr>
        <p:spPr>
          <a:xfrm>
            <a:off x="281952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Text and Book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2209680" y="1905120"/>
            <a:ext cx="533520" cy="1447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9"/>
          <p:cNvSpPr/>
          <p:nvPr/>
        </p:nvSpPr>
        <p:spPr>
          <a:xfrm rot="1200000">
            <a:off x="1904760" y="3352320"/>
            <a:ext cx="533160" cy="1447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0"/>
          <p:cNvSpPr/>
          <p:nvPr/>
        </p:nvSpPr>
        <p:spPr>
          <a:xfrm rot="19800000">
            <a:off x="3200040" y="3124080"/>
            <a:ext cx="533520" cy="26672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1"/>
          <p:cNvSpPr/>
          <p:nvPr/>
        </p:nvSpPr>
        <p:spPr>
          <a:xfrm rot="20700000">
            <a:off x="5851080" y="1885680"/>
            <a:ext cx="533520" cy="3733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2"/>
          <p:cNvSpPr/>
          <p:nvPr/>
        </p:nvSpPr>
        <p:spPr>
          <a:xfrm rot="1200000">
            <a:off x="5562360" y="5105520"/>
            <a:ext cx="533160" cy="1447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3"/>
          <p:cNvSpPr/>
          <p:nvPr/>
        </p:nvSpPr>
        <p:spPr>
          <a:xfrm rot="18900000">
            <a:off x="7010280" y="2438280"/>
            <a:ext cx="533520" cy="26672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4"/>
          <p:cNvSpPr/>
          <p:nvPr/>
        </p:nvSpPr>
        <p:spPr>
          <a:xfrm>
            <a:off x="7772400" y="4800600"/>
            <a:ext cx="533520" cy="1447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5"/>
          <p:cNvSpPr/>
          <p:nvPr/>
        </p:nvSpPr>
        <p:spPr>
          <a:xfrm>
            <a:off x="175248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6"/>
          <p:cNvSpPr/>
          <p:nvPr/>
        </p:nvSpPr>
        <p:spPr>
          <a:xfrm>
            <a:off x="2057400" y="1447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7"/>
          <p:cNvSpPr/>
          <p:nvPr/>
        </p:nvSpPr>
        <p:spPr>
          <a:xfrm>
            <a:off x="3048120" y="15238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8"/>
          <p:cNvSpPr/>
          <p:nvPr/>
        </p:nvSpPr>
        <p:spPr>
          <a:xfrm>
            <a:off x="990720" y="2514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9"/>
          <p:cNvSpPr/>
          <p:nvPr/>
        </p:nvSpPr>
        <p:spPr>
          <a:xfrm>
            <a:off x="2895480" y="23623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20"/>
          <p:cNvSpPr/>
          <p:nvPr/>
        </p:nvSpPr>
        <p:spPr>
          <a:xfrm>
            <a:off x="6477120" y="2209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21"/>
          <p:cNvSpPr/>
          <p:nvPr/>
        </p:nvSpPr>
        <p:spPr>
          <a:xfrm>
            <a:off x="4191120" y="4191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22"/>
          <p:cNvSpPr/>
          <p:nvPr/>
        </p:nvSpPr>
        <p:spPr>
          <a:xfrm>
            <a:off x="3733920" y="3581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23"/>
          <p:cNvSpPr/>
          <p:nvPr/>
        </p:nvSpPr>
        <p:spPr>
          <a:xfrm>
            <a:off x="5029200" y="18288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24"/>
          <p:cNvSpPr/>
          <p:nvPr/>
        </p:nvSpPr>
        <p:spPr>
          <a:xfrm>
            <a:off x="3352680" y="2895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25"/>
          <p:cNvSpPr/>
          <p:nvPr/>
        </p:nvSpPr>
        <p:spPr>
          <a:xfrm>
            <a:off x="5257800" y="4800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26"/>
          <p:cNvSpPr/>
          <p:nvPr/>
        </p:nvSpPr>
        <p:spPr>
          <a:xfrm>
            <a:off x="5410080" y="43434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7"/>
          <p:cNvSpPr/>
          <p:nvPr/>
        </p:nvSpPr>
        <p:spPr>
          <a:xfrm>
            <a:off x="1676520" y="3581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28"/>
          <p:cNvSpPr/>
          <p:nvPr/>
        </p:nvSpPr>
        <p:spPr>
          <a:xfrm>
            <a:off x="1600200" y="32004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9"/>
          <p:cNvSpPr/>
          <p:nvPr/>
        </p:nvSpPr>
        <p:spPr>
          <a:xfrm>
            <a:off x="4267080" y="15238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30"/>
          <p:cNvSpPr/>
          <p:nvPr/>
        </p:nvSpPr>
        <p:spPr>
          <a:xfrm>
            <a:off x="342900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31"/>
          <p:cNvSpPr/>
          <p:nvPr/>
        </p:nvSpPr>
        <p:spPr>
          <a:xfrm>
            <a:off x="8458200" y="3581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32"/>
          <p:cNvSpPr/>
          <p:nvPr/>
        </p:nvSpPr>
        <p:spPr>
          <a:xfrm>
            <a:off x="7848720" y="32004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33"/>
          <p:cNvSpPr/>
          <p:nvPr/>
        </p:nvSpPr>
        <p:spPr>
          <a:xfrm>
            <a:off x="4267080" y="27432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34"/>
          <p:cNvSpPr/>
          <p:nvPr/>
        </p:nvSpPr>
        <p:spPr>
          <a:xfrm>
            <a:off x="5181480" y="26668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35"/>
          <p:cNvSpPr/>
          <p:nvPr/>
        </p:nvSpPr>
        <p:spPr>
          <a:xfrm>
            <a:off x="7391520" y="16765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36"/>
          <p:cNvSpPr/>
          <p:nvPr/>
        </p:nvSpPr>
        <p:spPr>
          <a:xfrm>
            <a:off x="6934320" y="2438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37"/>
          <p:cNvSpPr/>
          <p:nvPr/>
        </p:nvSpPr>
        <p:spPr>
          <a:xfrm>
            <a:off x="30492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38"/>
          <p:cNvSpPr/>
          <p:nvPr/>
        </p:nvSpPr>
        <p:spPr>
          <a:xfrm>
            <a:off x="114300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39"/>
          <p:cNvSpPr/>
          <p:nvPr/>
        </p:nvSpPr>
        <p:spPr>
          <a:xfrm>
            <a:off x="8305920" y="2209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40"/>
          <p:cNvSpPr/>
          <p:nvPr/>
        </p:nvSpPr>
        <p:spPr>
          <a:xfrm>
            <a:off x="8229600" y="18288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41"/>
          <p:cNvSpPr/>
          <p:nvPr/>
        </p:nvSpPr>
        <p:spPr>
          <a:xfrm>
            <a:off x="7467480" y="50292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42"/>
          <p:cNvSpPr/>
          <p:nvPr/>
        </p:nvSpPr>
        <p:spPr>
          <a:xfrm>
            <a:off x="7162920" y="4800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43"/>
          <p:cNvSpPr/>
          <p:nvPr/>
        </p:nvSpPr>
        <p:spPr>
          <a:xfrm>
            <a:off x="4724280" y="64008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44"/>
          <p:cNvSpPr/>
          <p:nvPr/>
        </p:nvSpPr>
        <p:spPr>
          <a:xfrm>
            <a:off x="4038480" y="5867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45"/>
          <p:cNvSpPr/>
          <p:nvPr/>
        </p:nvSpPr>
        <p:spPr>
          <a:xfrm>
            <a:off x="4419720" y="5638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46"/>
          <p:cNvSpPr/>
          <p:nvPr/>
        </p:nvSpPr>
        <p:spPr>
          <a:xfrm>
            <a:off x="7543800" y="6324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47"/>
          <p:cNvSpPr/>
          <p:nvPr/>
        </p:nvSpPr>
        <p:spPr>
          <a:xfrm>
            <a:off x="1447920" y="50292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48"/>
          <p:cNvSpPr/>
          <p:nvPr/>
        </p:nvSpPr>
        <p:spPr>
          <a:xfrm>
            <a:off x="1828800" y="5410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hematics Hypertext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step of a very long term pro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contributors and collabo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is the building of large-scale structures of mathematical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title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 on Rea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im for a “comprehensive introduction" to the re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are everywhere dense in mathemat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have different meanings in different contex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 on Rea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o include on a text on real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ations and construction of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zations of the real numbers by stru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and substructures of the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classified in different w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are a system related to other sys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.  Foundations of the Real Number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efine real numbers and their basic operations from rationals or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tion of three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ekind cuts of ration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ce classes of Cauchy sequences of ration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-10 digit seq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.  Foundations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 of foundations from John Conway, "On Numbers and Games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048120" y="5105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26708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2514600" y="43434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3733920" y="38862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2057400" y="36576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3276720" y="3200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0"/>
          <p:cNvSpPr/>
          <p:nvPr/>
        </p:nvSpPr>
        <p:spPr>
          <a:xfrm flipV="1">
            <a:off x="3429000" y="48769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 flipH="1" flipV="1">
            <a:off x="2819520" y="4723920"/>
            <a:ext cx="30456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H="1" flipV="1">
            <a:off x="4038120" y="426672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 flipV="1">
            <a:off x="2895480" y="411480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 flipH="1" flipV="1">
            <a:off x="2361960" y="4038120"/>
            <a:ext cx="22860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 flipV="1">
            <a:off x="2438280" y="3429000"/>
            <a:ext cx="83844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6"/>
          <p:cNvSpPr/>
          <p:nvPr/>
        </p:nvSpPr>
        <p:spPr>
          <a:xfrm flipH="1" flipV="1">
            <a:off x="3580920" y="3505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7-07-06T06:40:41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